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34.wmf" ContentType="image/x-wmf"/>
  <Override PartName="/ppt/media/image51.png" ContentType="image/png"/>
  <Override PartName="/ppt/media/image35.wmf" ContentType="image/x-wmf"/>
  <Override PartName="/ppt/media/image42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52.png" ContentType="image/png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3EA-E25D-46F8-B093-2CB50DF8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9AB-588D-4CD7-A0F8-02C668B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0D2-4D02-4EBF-8363-129F8BBF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EA6-5736-4E2A-BF3E-4BA06377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18D-AA94-4CAE-B3AF-6AE71DB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0D6-ECFE-4D0E-A1B4-78303F04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7F5-7C57-4948-8C18-F1855025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B92-A4AA-40C1-B70C-C4D8390F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66B-8615-44A2-97A0-FD3215F4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891-B0BE-4C6A-9197-2F6003AA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C5F-F0C2-48B3-9447-CFAD851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EA0-27CE-4310-9E5F-6FFD3C5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AD3-7A11-4B42-B578-44311B2052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image" Target="../media/image26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50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DE 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21000"/>
            <a:ext cx="28400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3280" y="4292640"/>
            <a:ext cx="324000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64000" y="2492280"/>
            <a:ext cx="295128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U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651640" y="4076640"/>
            <a:ext cx="29509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IRIMIDI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5076720" y="2205000"/>
            <a:ext cx="432000" cy="3529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17 Grupo"/>
          <p:cNvGrpSpPr/>
          <p:nvPr/>
        </p:nvGrpSpPr>
        <p:grpSpPr>
          <a:xfrm>
            <a:off x="125280" y="1989000"/>
            <a:ext cx="2803680" cy="2527560"/>
            <a:chOff x="125280" y="1989000"/>
            <a:chExt cx="2803680" cy="2527560"/>
          </a:xfrm>
        </p:grpSpPr>
        <p:pic>
          <p:nvPicPr>
            <p:cNvPr id="119" name="Picture 10" descr="DR5P"/>
            <p:cNvPicPr/>
            <p:nvPr/>
          </p:nvPicPr>
          <p:blipFill>
            <a:blip r:embed="rId1"/>
            <a:srcRect l="0" t="0" r="0" b="10531"/>
            <a:stretch/>
          </p:blipFill>
          <p:spPr>
            <a:xfrm>
              <a:off x="125280" y="1989000"/>
              <a:ext cx="279108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15 CuadroTexto"/>
            <p:cNvSpPr/>
            <p:nvPr/>
          </p:nvSpPr>
          <p:spPr>
            <a:xfrm>
              <a:off x="2428920" y="3929400"/>
              <a:ext cx="500040" cy="398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6 CuadroTexto"/>
            <p:cNvSpPr/>
            <p:nvPr/>
          </p:nvSpPr>
          <p:spPr>
            <a:xfrm>
              <a:off x="2428920" y="3131280"/>
              <a:ext cx="500040" cy="398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NOV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UCLEOTIDOS DE PU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5076720" y="2341440"/>
            <a:ext cx="4067280" cy="1878120"/>
          </a:xfrm>
          <a:prstGeom prst="rect">
            <a:avLst/>
          </a:prstGeom>
          <a:ln w="0">
            <a:noFill/>
          </a:ln>
        </p:spPr>
      </p:pic>
      <p:sp>
        <p:nvSpPr>
          <p:cNvPr id="124" name="Oval 11"/>
          <p:cNvSpPr/>
          <p:nvPr/>
        </p:nvSpPr>
        <p:spPr>
          <a:xfrm>
            <a:off x="2340000" y="1639800"/>
            <a:ext cx="1366920" cy="8654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716360" y="5661000"/>
            <a:ext cx="1366920" cy="865080"/>
          </a:xfrm>
          <a:prstGeom prst="ellipse">
            <a:avLst/>
          </a:prstGeom>
          <a:gradFill rotWithShape="0">
            <a:gsLst>
              <a:gs pos="0">
                <a:srgbClr val="fbf1a3"/>
              </a:gs>
              <a:gs pos="100000">
                <a:srgbClr val="7470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25280" y="4581360"/>
            <a:ext cx="2519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a-5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219640" y="4262400"/>
            <a:ext cx="3745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AR100001"/>
          <p:cNvPicPr/>
          <p:nvPr/>
        </p:nvPicPr>
        <p:blipFill>
          <a:blip r:embed="rId5">
            <a:lum bright="-16000"/>
          </a:blip>
          <a:stretch/>
        </p:blipFill>
        <p:spPr>
          <a:xfrm>
            <a:off x="3348000" y="35002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RRWC099"/>
          <p:cNvPicPr/>
          <p:nvPr/>
        </p:nvPicPr>
        <p:blipFill>
          <a:blip r:embed="rId6">
            <a:lum bright="-24000"/>
          </a:blip>
          <a:stretch/>
        </p:blipFill>
        <p:spPr>
          <a:xfrm rot="4261200">
            <a:off x="2341440" y="2562120"/>
            <a:ext cx="1308240" cy="116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ARRWC200"/>
          <p:cNvPicPr/>
          <p:nvPr/>
        </p:nvPicPr>
        <p:blipFill>
          <a:blip r:embed="rId7"/>
          <a:stretch/>
        </p:blipFill>
        <p:spPr>
          <a:xfrm rot="20964000">
            <a:off x="3700440" y="3789000"/>
            <a:ext cx="1008000" cy="208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 rot="19493400">
            <a:off x="3564360" y="1988640"/>
            <a:ext cx="237636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7378560" y="2997360"/>
            <a:ext cx="1765440" cy="1008000"/>
          </a:xfrm>
          <a:prstGeom prst="rect">
            <a:avLst/>
          </a:pr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ormación de 5-Fosfo-</a:t>
            </a:r>
            <a:r>
              <a:rPr b="0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ribosilam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5796000" y="2565360"/>
            <a:ext cx="3348000" cy="1778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324000" y="242100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0225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7243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3203640" y="4581360"/>
            <a:ext cx="1079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6012000" y="4365720"/>
            <a:ext cx="1079280" cy="649080"/>
          </a:xfrm>
          <a:prstGeom prst="ellipse">
            <a:avLst/>
          </a:prstGeom>
          <a:solidFill>
            <a:srgbClr val="fcd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427640" y="2708280"/>
            <a:ext cx="8636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ARRWC197"/>
          <p:cNvPicPr/>
          <p:nvPr/>
        </p:nvPicPr>
        <p:blipFill>
          <a:blip r:embed="rId4"/>
          <a:stretch/>
        </p:blipFill>
        <p:spPr>
          <a:xfrm>
            <a:off x="3814920" y="3284640"/>
            <a:ext cx="3024000" cy="32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1" descr="ARRWC100"/>
          <p:cNvPicPr/>
          <p:nvPr/>
        </p:nvPicPr>
        <p:blipFill>
          <a:blip r:embed="rId5">
            <a:lum bright="-30000"/>
          </a:blip>
          <a:stretch/>
        </p:blipFill>
        <p:spPr>
          <a:xfrm rot="12143400">
            <a:off x="4356000" y="2276280"/>
            <a:ext cx="1270080" cy="122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ARRWC157"/>
          <p:cNvPicPr/>
          <p:nvPr/>
        </p:nvPicPr>
        <p:blipFill>
          <a:blip r:embed="rId6">
            <a:lum bright="-24000"/>
          </a:blip>
          <a:stretch/>
        </p:blipFill>
        <p:spPr>
          <a:xfrm rot="20080200">
            <a:off x="3203280" y="3860280"/>
            <a:ext cx="946080" cy="44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9" descr="ARRWC007"/>
          <p:cNvPicPr/>
          <p:nvPr/>
        </p:nvPicPr>
        <p:blipFill>
          <a:blip r:embed="rId7"/>
          <a:stretch/>
        </p:blipFill>
        <p:spPr>
          <a:xfrm rot="7639800">
            <a:off x="5232960" y="3409200"/>
            <a:ext cx="409680" cy="1439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9"/>
          <p:cNvSpPr/>
          <p:nvPr/>
        </p:nvSpPr>
        <p:spPr>
          <a:xfrm>
            <a:off x="4068720" y="3573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8172360" y="278136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24000" y="4508640"/>
            <a:ext cx="25923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7089840" y="4221000"/>
            <a:ext cx="2054160" cy="10087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ilamina (P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58680"/>
            <a:ext cx="8686800" cy="9223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IMP a partir de Fosforibosila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 es el primer nucleótido que se forma en la vía de biosíntesis de novo de las pur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a sintetizando el anillo de IMP sobre el nitrógeno que proviene de Glut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sta IMP  se gastan 4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viene los aminoácidos Glicina, Glutamina   (-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Aspartato (-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se libera Glutamato y Fum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ados del F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veen grupos de 1 átomo de carb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orpora un carbono proveniente de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estino IMP"/>
          <p:cNvPicPr/>
          <p:nvPr/>
        </p:nvPicPr>
        <p:blipFill>
          <a:blip r:embed="rId1"/>
          <a:stretch/>
        </p:blipFill>
        <p:spPr>
          <a:xfrm>
            <a:off x="539640" y="0"/>
            <a:ext cx="7921800" cy="6823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2916360" y="13827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9640" y="3357720"/>
            <a:ext cx="244800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Xantílico (X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643040" y="4286160"/>
            <a:ext cx="20890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MP-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948360" y="20520"/>
            <a:ext cx="1511280" cy="37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 rot="1927800">
            <a:off x="2123640" y="1915920"/>
            <a:ext cx="25192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M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971640" y="6553080"/>
            <a:ext cx="865080" cy="3070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6553080"/>
            <a:ext cx="865440" cy="3070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4284720" y="378936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 rot="19998600">
            <a:off x="4407120" y="937800"/>
            <a:ext cx="331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435640" y="4941720"/>
            <a:ext cx="27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li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1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UMEN DE LA VIA DE BIFUR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MP se transforma en AMP por adición de un grupo amino en posición C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rupo amino de AMP proviene de 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arbonos de Aspartato se liberan como fuma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MP se transforma en GMP por adición de un grupo amino en posición C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rupo amino de GMP proviene de Glut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utamina cede el grupo amino liberándose glutam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DE LA BIOSINTESIS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(V.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Glutamina, Glicina,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secundar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umarato y Gluta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rivados de F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" sz="3200" spc="-1" strike="noStrike" baseline="30000">
                <a:solidFill>
                  <a:srgbClr val="333399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ormil FH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res de Energ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una molécula de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s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una  d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BIOSI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" descr="STDA1047"/>
          <p:cNvPicPr/>
          <p:nvPr/>
        </p:nvPicPr>
        <p:blipFill>
          <a:blip r:embed="rId1"/>
          <a:stretch/>
        </p:blipFill>
        <p:spPr>
          <a:xfrm>
            <a:off x="0" y="2133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6" descr="STDA1047"/>
          <p:cNvPicPr/>
          <p:nvPr/>
        </p:nvPicPr>
        <p:blipFill>
          <a:blip r:embed="rId2"/>
          <a:stretch/>
        </p:blipFill>
        <p:spPr>
          <a:xfrm>
            <a:off x="250920" y="378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AD001810"/>
          <p:cNvPicPr/>
          <p:nvPr/>
        </p:nvPicPr>
        <p:blipFill>
          <a:blip r:embed="rId3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3" descr="AD001810"/>
          <p:cNvPicPr/>
          <p:nvPr/>
        </p:nvPicPr>
        <p:blipFill>
          <a:blip r:embed="rId4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9" descr="AD001810"/>
          <p:cNvPicPr/>
          <p:nvPr/>
        </p:nvPicPr>
        <p:blipFill>
          <a:blip r:embed="rId5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0" descr="AD001810"/>
          <p:cNvPicPr/>
          <p:nvPr/>
        </p:nvPicPr>
        <p:blipFill>
          <a:blip r:embed="rId6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2" descr="STDA1047"/>
          <p:cNvPicPr/>
          <p:nvPr/>
        </p:nvPicPr>
        <p:blipFill>
          <a:blip r:embed="rId7"/>
          <a:stretch/>
        </p:blipFill>
        <p:spPr>
          <a:xfrm>
            <a:off x="5076720" y="27813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4" descr="STDA1047"/>
          <p:cNvPicPr/>
          <p:nvPr/>
        </p:nvPicPr>
        <p:blipFill>
          <a:blip r:embed="rId8"/>
          <a:stretch/>
        </p:blipFill>
        <p:spPr>
          <a:xfrm>
            <a:off x="7380360" y="2565360"/>
            <a:ext cx="979560" cy="979560"/>
          </a:xfrm>
          <a:prstGeom prst="rect">
            <a:avLst/>
          </a:prstGeom>
          <a:ln w="0">
            <a:noFill/>
          </a:ln>
        </p:spPr>
      </p:pic>
      <p:sp>
        <p:nvSpPr>
          <p:cNvPr id="191" name="Oval 56"/>
          <p:cNvSpPr/>
          <p:nvPr/>
        </p:nvSpPr>
        <p:spPr>
          <a:xfrm>
            <a:off x="5651640" y="321300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7"/>
          <p:cNvSpPr/>
          <p:nvPr/>
        </p:nvSpPr>
        <p:spPr>
          <a:xfrm>
            <a:off x="8172360" y="2637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8"/>
          <p:cNvSpPr/>
          <p:nvPr/>
        </p:nvSpPr>
        <p:spPr>
          <a:xfrm>
            <a:off x="2771640" y="393372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2843280" y="206064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7" descr="ARRWC220"/>
          <p:cNvPicPr/>
          <p:nvPr/>
        </p:nvPicPr>
        <p:blipFill>
          <a:blip r:embed="rId9"/>
          <a:stretch/>
        </p:blipFill>
        <p:spPr>
          <a:xfrm rot="20919000">
            <a:off x="5681520" y="3787560"/>
            <a:ext cx="1692360" cy="2674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0"/>
          <p:cNvSpPr/>
          <p:nvPr/>
        </p:nvSpPr>
        <p:spPr>
          <a:xfrm>
            <a:off x="6732720" y="5661000"/>
            <a:ext cx="503280" cy="703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1" descr="ARRWC221"/>
          <p:cNvPicPr/>
          <p:nvPr/>
        </p:nvPicPr>
        <p:blipFill>
          <a:blip r:embed="rId10"/>
          <a:stretch/>
        </p:blipFill>
        <p:spPr>
          <a:xfrm rot="15896400">
            <a:off x="5208480" y="4281120"/>
            <a:ext cx="3319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ARRWC178"/>
          <p:cNvPicPr/>
          <p:nvPr/>
        </p:nvPicPr>
        <p:blipFill>
          <a:blip r:embed="rId1"/>
          <a:stretch/>
        </p:blipFill>
        <p:spPr>
          <a:xfrm>
            <a:off x="5132520" y="3068640"/>
            <a:ext cx="344520" cy="1327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IAS DE RECUPE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bases púricas libres se recup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poxantina  +  PRPP            I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anina  +  PRPP                GMP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nina  +  PRPP                A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211640" y="4581360"/>
            <a:ext cx="266400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osina fosforribosil transferasa (A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780000" y="3357720"/>
            <a:ext cx="352872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xantian-guanina fosforribosil transferasa (HG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445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716360" y="3141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 DE PURINAS- FORMACION DE ACIDO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7"/>
          <p:cNvSpPr/>
          <p:nvPr/>
        </p:nvSpPr>
        <p:spPr>
          <a:xfrm>
            <a:off x="1868400" y="1612800"/>
            <a:ext cx="86688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8"/>
          <p:cNvSpPr/>
          <p:nvPr/>
        </p:nvSpPr>
        <p:spPr>
          <a:xfrm>
            <a:off x="2301840" y="194004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"/>
          <p:cNvSpPr/>
          <p:nvPr/>
        </p:nvSpPr>
        <p:spPr>
          <a:xfrm>
            <a:off x="2556000" y="1844640"/>
            <a:ext cx="901440" cy="76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0"/>
          <p:cNvSpPr/>
          <p:nvPr/>
        </p:nvSpPr>
        <p:spPr>
          <a:xfrm>
            <a:off x="2301840" y="2143080"/>
            <a:ext cx="216000" cy="344520"/>
          </a:xfrm>
          <a:custGeom>
            <a:avLst/>
            <a:gdLst>
              <a:gd name="textAreaLeft" fmla="*/ 28800 w 216000"/>
              <a:gd name="textAreaRight" fmla="*/ 187200 w 216000"/>
              <a:gd name="textAreaTop" fmla="*/ 60120 h 344520"/>
              <a:gd name="textAreaBottom" fmla="*/ 24984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395280" y="2143080"/>
            <a:ext cx="2014560" cy="32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ucleot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1619280" y="2781360"/>
            <a:ext cx="162252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3"/>
          <p:cNvSpPr/>
          <p:nvPr/>
        </p:nvSpPr>
        <p:spPr>
          <a:xfrm>
            <a:off x="2230560" y="332100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4"/>
          <p:cNvSpPr/>
          <p:nvPr/>
        </p:nvSpPr>
        <p:spPr>
          <a:xfrm>
            <a:off x="2446200" y="3321000"/>
            <a:ext cx="83052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5"/>
          <p:cNvSpPr/>
          <p:nvPr/>
        </p:nvSpPr>
        <p:spPr>
          <a:xfrm>
            <a:off x="2230560" y="3524400"/>
            <a:ext cx="215640" cy="344160"/>
          </a:xfrm>
          <a:custGeom>
            <a:avLst/>
            <a:gdLst>
              <a:gd name="textAreaLeft" fmla="*/ 28800 w 215640"/>
              <a:gd name="textAreaRight" fmla="*/ 186840 w 215640"/>
              <a:gd name="textAreaTop" fmla="*/ 60120 h 344160"/>
              <a:gd name="textAreaBottom" fmla="*/ 249480 h 34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6"/>
          <p:cNvSpPr/>
          <p:nvPr/>
        </p:nvSpPr>
        <p:spPr>
          <a:xfrm>
            <a:off x="179280" y="3429000"/>
            <a:ext cx="1728720" cy="43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2446200" y="4197240"/>
            <a:ext cx="1117800" cy="6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8"/>
          <p:cNvSpPr/>
          <p:nvPr/>
        </p:nvSpPr>
        <p:spPr>
          <a:xfrm>
            <a:off x="2230560" y="419724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9"/>
          <p:cNvSpPr/>
          <p:nvPr/>
        </p:nvSpPr>
        <p:spPr>
          <a:xfrm>
            <a:off x="2230560" y="4289400"/>
            <a:ext cx="215640" cy="397080"/>
          </a:xfrm>
          <a:custGeom>
            <a:avLst/>
            <a:gdLst>
              <a:gd name="textAreaLeft" fmla="*/ 28800 w 215640"/>
              <a:gd name="textAreaRight" fmla="*/ 186840 w 215640"/>
              <a:gd name="textAreaTop" fmla="*/ 69480 h 397080"/>
              <a:gd name="textAreaBottom" fmla="*/ 28800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1"/>
          <p:cNvSpPr/>
          <p:nvPr/>
        </p:nvSpPr>
        <p:spPr>
          <a:xfrm>
            <a:off x="1619280" y="50864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513320" y="2178000"/>
          <a:ext cx="1406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3320" y="2178000"/>
                    <a:ext cx="1406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73"/>
          <p:cNvSpPr/>
          <p:nvPr/>
        </p:nvSpPr>
        <p:spPr>
          <a:xfrm>
            <a:off x="4946760" y="3289320"/>
            <a:ext cx="1425600" cy="355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4"/>
          <p:cNvSpPr/>
          <p:nvPr/>
        </p:nvSpPr>
        <p:spPr>
          <a:xfrm>
            <a:off x="3924360" y="155736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5"/>
          <p:cNvSpPr/>
          <p:nvPr/>
        </p:nvSpPr>
        <p:spPr>
          <a:xfrm>
            <a:off x="5364000" y="1557360"/>
            <a:ext cx="142416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6"/>
          <p:cNvSpPr/>
          <p:nvPr/>
        </p:nvSpPr>
        <p:spPr>
          <a:xfrm>
            <a:off x="5162400" y="1741320"/>
            <a:ext cx="217800" cy="395280"/>
          </a:xfrm>
          <a:custGeom>
            <a:avLst/>
            <a:gdLst>
              <a:gd name="textAreaLeft" fmla="*/ 29160 w 217800"/>
              <a:gd name="textAreaRight" fmla="*/ 188640 w 21780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4067280" y="3754440"/>
            <a:ext cx="13334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9"/>
          <p:cNvSpPr/>
          <p:nvPr/>
        </p:nvSpPr>
        <p:spPr>
          <a:xfrm>
            <a:off x="5219640" y="3716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4572000" y="4653000"/>
          <a:ext cx="19447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653000"/>
                    <a:ext cx="194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82"/>
          <p:cNvSpPr/>
          <p:nvPr/>
        </p:nvSpPr>
        <p:spPr>
          <a:xfrm>
            <a:off x="5580000" y="3645000"/>
            <a:ext cx="14032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4572000" y="6021360"/>
            <a:ext cx="19432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>
            <a:off x="5148360" y="1628640"/>
            <a:ext cx="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742160" y="4902120"/>
            <a:ext cx="866880" cy="32724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6"/>
          <p:cNvSpPr/>
          <p:nvPr/>
        </p:nvSpPr>
        <p:spPr>
          <a:xfrm flipH="1">
            <a:off x="6227640" y="285264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381800" y="3822840"/>
            <a:ext cx="1511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524720" y="2708280"/>
            <a:ext cx="1295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9"/>
          <p:cNvSpPr/>
          <p:nvPr/>
        </p:nvSpPr>
        <p:spPr>
          <a:xfrm rot="19630800">
            <a:off x="6516720" y="1988640"/>
            <a:ext cx="1728720" cy="436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 flipV="1">
            <a:off x="8174160" y="43257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 flipV="1">
            <a:off x="8172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1"/>
          <p:cNvSpPr/>
          <p:nvPr/>
        </p:nvSpPr>
        <p:spPr>
          <a:xfrm>
            <a:off x="5292720" y="3860640"/>
            <a:ext cx="217440" cy="395280"/>
          </a:xfrm>
          <a:custGeom>
            <a:avLst/>
            <a:gdLst>
              <a:gd name="textAreaLeft" fmla="*/ 29160 w 217440"/>
              <a:gd name="textAreaRight" fmla="*/ 188280 w 21744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4427640" y="10526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umen de la degradación de bases pú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mononucleótidos (AMP y GMP) deben perder el grupo fosfato, la ribosa y el grupo amino para formar Hipoxantina y Xantin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final de la degradación es el ACIDO U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ácido úrico es poco soluble y cuando aumenta su producción precipita (riñón, articu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pósito de ácido úrico produce la G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eta en estos casos debe ser pobre en: proteínas, vísceras, mollejas, espinaca, bajo consumo de alcohol, café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ármaco Alopurinol inhibe la enzima Xantina oxidasa disminuyendo la producción de ácido ú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SON LOS NUCLEOTIDOS Y CUAL ES SU IMPORTANC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640" y="1844280"/>
            <a:ext cx="4788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ECULAS NITROGENADA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96000" y="2492280"/>
            <a:ext cx="324648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RECIMIENTO CE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55640" y="2997360"/>
            <a:ext cx="4788000" cy="86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DAD ESTRUCTURAL DE LOS ACIDOS NUCLE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55640" y="4005360"/>
            <a:ext cx="478800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COMO DADORES  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55640" y="4940280"/>
            <a:ext cx="4788000" cy="5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N VIAS METABO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755640" y="5805360"/>
            <a:ext cx="478800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N COMO SEGUNDOS MENSA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mero se sintetiza el anillo de pirimid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quiere de Carbamil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 dos aminoácidos: Glutamina y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intetiza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úa  una proteína trifuncional: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NUCLEOTIDOS PIRIMIDI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OCEDENCIA DE LOS ATOMOS DEL ANILLO PIRIMIDI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19 Grupo"/>
          <p:cNvGrpSpPr/>
          <p:nvPr/>
        </p:nvGrpSpPr>
        <p:grpSpPr>
          <a:xfrm>
            <a:off x="1500120" y="2071800"/>
            <a:ext cx="6072120" cy="3881160"/>
            <a:chOff x="1500120" y="2071800"/>
            <a:chExt cx="6072120" cy="3881160"/>
          </a:xfrm>
        </p:grpSpPr>
        <p:grpSp>
          <p:nvGrpSpPr>
            <p:cNvPr id="255" name="18 Grupo"/>
            <p:cNvGrpSpPr/>
            <p:nvPr/>
          </p:nvGrpSpPr>
          <p:grpSpPr>
            <a:xfrm>
              <a:off x="1500120" y="2071800"/>
              <a:ext cx="6072120" cy="3881160"/>
              <a:chOff x="1500120" y="2071800"/>
              <a:chExt cx="6072120" cy="3881160"/>
            </a:xfrm>
          </p:grpSpPr>
          <p:grpSp>
            <p:nvGrpSpPr>
              <p:cNvPr id="256" name="9 Grupo"/>
              <p:cNvGrpSpPr/>
              <p:nvPr/>
            </p:nvGrpSpPr>
            <p:grpSpPr>
              <a:xfrm>
                <a:off x="1571400" y="2071800"/>
                <a:ext cx="4094280" cy="3881160"/>
                <a:chOff x="1571400" y="2071800"/>
                <a:chExt cx="4094280" cy="3881160"/>
              </a:xfrm>
            </p:grpSpPr>
            <p:pic>
              <p:nvPicPr>
                <p:cNvPr id="257" name="Picture 5" descr="formulas de bases puricas"/>
                <p:cNvPicPr/>
                <p:nvPr/>
              </p:nvPicPr>
              <p:blipFill>
                <a:blip r:embed="rId1"/>
                <a:srcRect l="50834" t="5256" r="7683" b="64395"/>
                <a:stretch/>
              </p:blipFill>
              <p:spPr>
                <a:xfrm>
                  <a:off x="1571400" y="2071800"/>
                  <a:ext cx="4094280" cy="38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1"/>
                <p:cNvSpPr/>
                <p:nvPr/>
              </p:nvSpPr>
              <p:spPr>
                <a:xfrm>
                  <a:off x="1713960" y="2786040"/>
                  <a:ext cx="1643040" cy="398880"/>
                </a:xfrm>
                <a:prstGeom prst="rect">
                  <a:avLst/>
                </a:prstGeom>
                <a:solidFill>
                  <a:srgbClr val="f0d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Citosin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"/>
                <p:cNvSpPr/>
                <p:nvPr/>
              </p:nvSpPr>
              <p:spPr>
                <a:xfrm rot="5400000">
                  <a:off x="3028680" y="3328920"/>
                  <a:ext cx="1643040" cy="1843200"/>
                </a:xfrm>
                <a:prstGeom prst="pie">
                  <a:avLst/>
                </a:prstGeom>
                <a:noFill/>
                <a:ln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5"/>
                <p:cNvSpPr/>
                <p:nvPr/>
              </p:nvSpPr>
              <p:spPr>
                <a:xfrm>
                  <a:off x="3286080" y="3786120"/>
                  <a:ext cx="360720" cy="1143000"/>
                </a:xfrm>
                <a:prstGeom prst="rect">
                  <a:avLst/>
                </a:prstGeom>
                <a:noFill/>
                <a:ln cap="rnd"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12 CuadroTexto"/>
              <p:cNvSpPr/>
              <p:nvPr/>
            </p:nvSpPr>
            <p:spPr>
              <a:xfrm>
                <a:off x="5715000" y="328608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ASPAR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13 CuadroTexto"/>
              <p:cNvSpPr/>
              <p:nvPr/>
            </p:nvSpPr>
            <p:spPr>
              <a:xfrm>
                <a:off x="1500120" y="38577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CARBAMIL-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3" name="15 Conector recto de flecha"/>
              <p:cNvCxnSpPr/>
              <p:nvPr/>
            </p:nvCxnSpPr>
            <p:spPr>
              <a:xfrm>
                <a:off x="2642760" y="4000680"/>
                <a:ext cx="572040" cy="357840"/>
              </a:xfrm>
              <a:prstGeom prst="straightConnector1">
                <a:avLst/>
              </a:prstGeom>
              <a:ln w="28440">
                <a:solidFill>
                  <a:srgbClr val="005696"/>
                </a:solidFill>
                <a:miter/>
                <a:tailEnd len="med" type="arrow" w="med"/>
              </a:ln>
            </p:spPr>
          </p:cxnSp>
        </p:grpSp>
        <p:cxnSp>
          <p:nvCxnSpPr>
            <p:cNvPr id="264" name="11 Conector recto de flecha"/>
            <p:cNvCxnSpPr/>
            <p:nvPr/>
          </p:nvCxnSpPr>
          <p:spPr>
            <a:xfrm flipH="1">
              <a:off x="4785480" y="3570840"/>
              <a:ext cx="1215000" cy="572040"/>
            </a:xfrm>
            <a:prstGeom prst="straightConnector1">
              <a:avLst/>
            </a:prstGeom>
            <a:ln w="28440">
              <a:solidFill>
                <a:srgbClr val="005696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4"/>
          <p:cNvSpPr/>
          <p:nvPr/>
        </p:nvSpPr>
        <p:spPr>
          <a:xfrm>
            <a:off x="4356000" y="5283360"/>
            <a:ext cx="1440000" cy="1620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9"/>
          <p:cNvSpPr/>
          <p:nvPr/>
        </p:nvSpPr>
        <p:spPr>
          <a:xfrm>
            <a:off x="5867280" y="5877000"/>
            <a:ext cx="433440" cy="503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CARBAMIL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9" descr="glu"/>
          <p:cNvPicPr/>
          <p:nvPr/>
        </p:nvPicPr>
        <p:blipFill>
          <a:blip r:embed="rId1"/>
          <a:stretch/>
        </p:blipFill>
        <p:spPr>
          <a:xfrm>
            <a:off x="1187280" y="4925880"/>
            <a:ext cx="1481400" cy="193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gln"/>
          <p:cNvPicPr/>
          <p:nvPr/>
        </p:nvPicPr>
        <p:blipFill>
          <a:blip r:embed="rId2"/>
          <a:srcRect l="0" t="0" r="0" b="4221"/>
          <a:stretch/>
        </p:blipFill>
        <p:spPr>
          <a:xfrm>
            <a:off x="755640" y="1484280"/>
            <a:ext cx="1665360" cy="2232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3"/>
          <p:cNvSpPr/>
          <p:nvPr/>
        </p:nvSpPr>
        <p:spPr>
          <a:xfrm>
            <a:off x="291636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067280" y="1916280"/>
            <a:ext cx="1512720" cy="7182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826920" y="35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1116000" y="645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5796000" y="3573360"/>
            <a:ext cx="2881440" cy="70380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arbamoil fosfato sintetas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4140360" y="2997360"/>
            <a:ext cx="79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211640" y="3716280"/>
            <a:ext cx="8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276720" y="55738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4500720" y="5157720"/>
            <a:ext cx="3887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-C-O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2"/>
          <p:cNvSpPr/>
          <p:nvPr/>
        </p:nvSpPr>
        <p:spPr>
          <a:xfrm>
            <a:off x="529128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3"/>
          <p:cNvSpPr/>
          <p:nvPr/>
        </p:nvSpPr>
        <p:spPr>
          <a:xfrm>
            <a:off x="536400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826920" y="1557360"/>
            <a:ext cx="433440" cy="785520"/>
          </a:xfrm>
          <a:prstGeom prst="rect">
            <a:avLst/>
          </a:prstGeom>
          <a:solidFill>
            <a:srgbClr val="fcddd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6" descr="NA0110"/>
          <p:cNvPicPr/>
          <p:nvPr/>
        </p:nvPicPr>
        <p:blipFill>
          <a:blip r:embed="rId3"/>
          <a:stretch/>
        </p:blipFill>
        <p:spPr>
          <a:xfrm rot="10800000">
            <a:off x="3276720" y="3054240"/>
            <a:ext cx="452160" cy="2376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ARRWC100"/>
          <p:cNvPicPr/>
          <p:nvPr/>
        </p:nvPicPr>
        <p:blipFill>
          <a:blip r:embed="rId4">
            <a:lum bright="-72000"/>
          </a:blip>
          <a:stretch/>
        </p:blipFill>
        <p:spPr>
          <a:xfrm rot="17846400">
            <a:off x="3449160" y="2966760"/>
            <a:ext cx="933480" cy="1136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0" descr="ARRWC234"/>
          <p:cNvPicPr/>
          <p:nvPr/>
        </p:nvPicPr>
        <p:blipFill>
          <a:blip r:embed="rId5">
            <a:lum bright="-50000"/>
          </a:blip>
          <a:stretch/>
        </p:blipFill>
        <p:spPr>
          <a:xfrm rot="11211600">
            <a:off x="3563640" y="4076280"/>
            <a:ext cx="2230200" cy="531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1"/>
          <p:cNvSpPr/>
          <p:nvPr/>
        </p:nvSpPr>
        <p:spPr>
          <a:xfrm>
            <a:off x="4067280" y="6453360"/>
            <a:ext cx="2448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fi22p10"/>
          <p:cNvPicPr/>
          <p:nvPr/>
        </p:nvPicPr>
        <p:blipFill>
          <a:blip r:embed="rId1"/>
          <a:srcRect l="0" t="0" r="0" b="54140"/>
          <a:stretch/>
        </p:blipFill>
        <p:spPr>
          <a:xfrm>
            <a:off x="409680" y="1341360"/>
            <a:ext cx="8734320" cy="4137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5292720" y="1844640"/>
            <a:ext cx="32400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95280" y="4292640"/>
            <a:ext cx="136692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627280" y="2565360"/>
            <a:ext cx="136692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771640" y="4365720"/>
            <a:ext cx="165600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476360" y="4869000"/>
            <a:ext cx="1081080" cy="505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003640" y="4292640"/>
            <a:ext cx="158436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-Dih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7308720" y="4221000"/>
            <a:ext cx="158436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8028000" y="4653000"/>
            <a:ext cx="111600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 rot="20005800">
            <a:off x="3996000" y="2997000"/>
            <a:ext cx="201636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ihidrooro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 rot="19936200">
            <a:off x="6518160" y="2133000"/>
            <a:ext cx="2016000" cy="78552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ihidro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2627280" y="3429000"/>
            <a:ext cx="72072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5292720" y="3500280"/>
            <a:ext cx="360360" cy="72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8532720" y="3429000"/>
            <a:ext cx="216000" cy="72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95280" y="12528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OR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fi22p10"/>
          <p:cNvPicPr/>
          <p:nvPr/>
        </p:nvPicPr>
        <p:blipFill>
          <a:blip r:embed="rId1">
            <a:lum bright="-16000"/>
          </a:blip>
          <a:srcRect l="37712" t="36031" r="0" b="0"/>
          <a:stretch/>
        </p:blipFill>
        <p:spPr>
          <a:xfrm>
            <a:off x="2340000" y="550800"/>
            <a:ext cx="5946840" cy="63072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7667640" y="40464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724360" y="620640"/>
            <a:ext cx="1656000" cy="87336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orribo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299280" y="3422520"/>
            <a:ext cx="20890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otilidato (O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6370560" y="6446880"/>
            <a:ext cx="20890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idilato (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5435640" y="3789360"/>
            <a:ext cx="1942920" cy="56592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708360" y="5516640"/>
            <a:ext cx="1224000" cy="2584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508720" y="5445000"/>
            <a:ext cx="1224000" cy="2584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1042920" y="5087880"/>
            <a:ext cx="158436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2050920" y="4511520"/>
            <a:ext cx="1224000" cy="423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idilato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2556000" y="1628640"/>
            <a:ext cx="1224000" cy="432000"/>
          </a:xfrm>
          <a:prstGeom prst="rect">
            <a:avLst/>
          </a:prstGeom>
          <a:solidFill>
            <a:srgbClr val="bbe0e3">
              <a:alpha val="38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6372360" y="6381720"/>
            <a:ext cx="1944720" cy="47628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732720" y="2997360"/>
            <a:ext cx="158436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bosa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3132000" y="342900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2916360" y="537372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regulacion ATC"/>
          <p:cNvPicPr/>
          <p:nvPr/>
        </p:nvPicPr>
        <p:blipFill>
          <a:blip r:embed="rId1"/>
          <a:stretch/>
        </p:blipFill>
        <p:spPr>
          <a:xfrm>
            <a:off x="1763640" y="1494000"/>
            <a:ext cx="5400720" cy="5337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3635280" y="64911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 rot="16200000">
            <a:off x="797760" y="3747240"/>
            <a:ext cx="266544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locidad de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uperación de Pirimid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ridina  + ATP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t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m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3780000" y="191628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3851280" y="3141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3924360" y="43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fi22p11"/>
          <p:cNvPicPr/>
          <p:nvPr/>
        </p:nvPicPr>
        <p:blipFill>
          <a:blip r:embed="rId1"/>
          <a:srcRect l="0" t="0" r="0" b="36673"/>
          <a:stretch/>
        </p:blipFill>
        <p:spPr>
          <a:xfrm>
            <a:off x="1187280" y="1916280"/>
            <a:ext cx="2400480" cy="4608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fi22p11"/>
          <p:cNvPicPr/>
          <p:nvPr/>
        </p:nvPicPr>
        <p:blipFill>
          <a:blip r:embed="rId2"/>
          <a:srcRect l="0" t="58380" r="0" b="0"/>
          <a:stretch/>
        </p:blipFill>
        <p:spPr>
          <a:xfrm>
            <a:off x="5003640" y="1773360"/>
            <a:ext cx="3310200" cy="41767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546200" y="4149720"/>
            <a:ext cx="10098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2843280" y="364500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411280" y="3284640"/>
            <a:ext cx="1368720" cy="3373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bosa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611280" y="321300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403280" y="2781360"/>
            <a:ext cx="151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1619280" y="17002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556000" y="4292640"/>
            <a:ext cx="20872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ribosa-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332000" y="630864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5292720" y="177336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148360" y="3645000"/>
            <a:ext cx="3168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ureidopropio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435640" y="5229360"/>
            <a:ext cx="2087640" cy="822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+ 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í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forman compuestos muy solubles que pueden ser eliminados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ductos de degradación son: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 NH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lanina y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ede degradarse 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uccinil-Co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puede ingresar al Ciclo de Kr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desoxirribonucleo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4"/>
          <p:cNvSpPr/>
          <p:nvPr/>
        </p:nvSpPr>
        <p:spPr>
          <a:xfrm>
            <a:off x="8280360" y="4869000"/>
            <a:ext cx="863640" cy="79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5"/>
          <p:cNvSpPr/>
          <p:nvPr/>
        </p:nvSpPr>
        <p:spPr>
          <a:xfrm>
            <a:off x="8209080" y="5877000"/>
            <a:ext cx="934920" cy="503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4859280" y="1989000"/>
            <a:ext cx="3024360" cy="86364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4716360" y="5300640"/>
            <a:ext cx="3027600" cy="863640"/>
          </a:xfrm>
          <a:custGeom>
            <a:avLst/>
            <a:gdLst>
              <a:gd name="textAreaLeft" fmla="*/ 691200 w 3027600"/>
              <a:gd name="textAreaRight" fmla="*/ 2336400 w 30276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5003640" y="3573360"/>
            <a:ext cx="194328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ibonucleótid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8280360" y="2708280"/>
            <a:ext cx="863640" cy="79200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5" descr="ARRWC007"/>
          <p:cNvPicPr/>
          <p:nvPr/>
        </p:nvPicPr>
        <p:blipFill>
          <a:blip r:embed="rId3"/>
          <a:stretch/>
        </p:blipFill>
        <p:spPr>
          <a:xfrm rot="10613400">
            <a:off x="4722480" y="2639160"/>
            <a:ext cx="641160" cy="2762280"/>
          </a:xfrm>
          <a:prstGeom prst="rect">
            <a:avLst/>
          </a:prstGeom>
          <a:ln w="0">
            <a:noFill/>
          </a:ln>
        </p:spPr>
      </p:pic>
      <p:grpSp>
        <p:nvGrpSpPr>
          <p:cNvPr id="349" name="21 Grupo"/>
          <p:cNvGrpSpPr/>
          <p:nvPr/>
        </p:nvGrpSpPr>
        <p:grpSpPr>
          <a:xfrm>
            <a:off x="324000" y="1484280"/>
            <a:ext cx="4489200" cy="5084640"/>
            <a:chOff x="324000" y="1484280"/>
            <a:chExt cx="4489200" cy="5084640"/>
          </a:xfrm>
        </p:grpSpPr>
        <p:pic>
          <p:nvPicPr>
            <p:cNvPr id="350" name="Picture 5" descr="DAMP"/>
            <p:cNvPicPr/>
            <p:nvPr/>
          </p:nvPicPr>
          <p:blipFill>
            <a:blip r:embed="rId4">
              <a:lum bright="-16000"/>
            </a:blip>
            <a:srcRect l="0" t="6006" r="0" b="9083"/>
            <a:stretch/>
          </p:blipFill>
          <p:spPr>
            <a:xfrm>
              <a:off x="324000" y="4182840"/>
              <a:ext cx="403848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9" descr="5AMP"/>
            <p:cNvPicPr/>
            <p:nvPr/>
          </p:nvPicPr>
          <p:blipFill>
            <a:blip r:embed="rId5">
              <a:lum bright="-18000"/>
            </a:blip>
            <a:srcRect l="0" t="8790" r="0" b="12159"/>
            <a:stretch/>
          </p:blipFill>
          <p:spPr>
            <a:xfrm>
              <a:off x="324000" y="1699920"/>
              <a:ext cx="39733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7"/>
            <p:cNvSpPr/>
            <p:nvPr/>
          </p:nvSpPr>
          <p:spPr>
            <a:xfrm>
              <a:off x="2843280" y="148428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"/>
            <p:cNvSpPr/>
            <p:nvPr/>
          </p:nvSpPr>
          <p:spPr>
            <a:xfrm>
              <a:off x="3059280" y="414972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2411280" y="3644640"/>
              <a:ext cx="647640" cy="50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0"/>
            <p:cNvSpPr/>
            <p:nvPr/>
          </p:nvSpPr>
          <p:spPr>
            <a:xfrm>
              <a:off x="1979640" y="6066000"/>
              <a:ext cx="647640" cy="50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Picture 27" descr="ARRWC008"/>
            <p:cNvPicPr/>
            <p:nvPr/>
          </p:nvPicPr>
          <p:blipFill>
            <a:blip r:embed="rId6"/>
            <a:stretch/>
          </p:blipFill>
          <p:spPr>
            <a:xfrm rot="10575000">
              <a:off x="4140000" y="2693880"/>
              <a:ext cx="58392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7" name="Picture 29" descr="ARRWC007"/>
          <p:cNvPicPr/>
          <p:nvPr/>
        </p:nvPicPr>
        <p:blipFill>
          <a:blip r:embed="rId7"/>
          <a:stretch/>
        </p:blipFill>
        <p:spPr>
          <a:xfrm rot="212400">
            <a:off x="7451640" y="2705040"/>
            <a:ext cx="50328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1" descr="ARRWC008"/>
          <p:cNvPicPr/>
          <p:nvPr/>
        </p:nvPicPr>
        <p:blipFill>
          <a:blip r:embed="rId8"/>
          <a:stretch/>
        </p:blipFill>
        <p:spPr>
          <a:xfrm>
            <a:off x="7878600" y="3357720"/>
            <a:ext cx="516240" cy="1800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9"/>
          <p:cNvSpPr/>
          <p:nvPr/>
        </p:nvSpPr>
        <p:spPr>
          <a:xfrm rot="19922400">
            <a:off x="6877080" y="4076280"/>
            <a:ext cx="194292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iorredoxina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87280" y="2421000"/>
            <a:ext cx="3313440" cy="825480"/>
          </a:xfrm>
          <a:prstGeom prst="rect">
            <a:avLst/>
          </a:prstGeom>
          <a:solidFill>
            <a:srgbClr val="fabb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E NITROG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195640" y="4076640"/>
            <a:ext cx="3457440" cy="459720"/>
          </a:xfrm>
          <a:prstGeom prst="rect">
            <a:avLst/>
          </a:prstGeom>
          <a:solidFill>
            <a:srgbClr val="b4dc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56000" y="5229360"/>
            <a:ext cx="2448000" cy="825480"/>
          </a:xfrm>
          <a:prstGeom prst="rect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i22p18"/>
          <p:cNvPicPr/>
          <p:nvPr/>
        </p:nvPicPr>
        <p:blipFill>
          <a:blip r:embed="rId1">
            <a:lum bright="-16000"/>
          </a:blip>
          <a:srcRect l="0" t="0" r="0" b="32247"/>
          <a:stretch/>
        </p:blipFill>
        <p:spPr>
          <a:xfrm>
            <a:off x="1547640" y="2325600"/>
            <a:ext cx="6337440" cy="3942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4356000" y="3716280"/>
            <a:ext cx="129564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imidil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124000" y="3933720"/>
            <a:ext cx="863640" cy="50328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6732720" y="3933720"/>
            <a:ext cx="863640" cy="50328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6877080" y="2349360"/>
            <a:ext cx="1079640" cy="40572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O DE FARMACOS CAPACES DE INHIBIR ENZIMAS IMPLICADAS EN EL METABOLISMO DE NUCLEO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OPURINOL:  Inhib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Tratamiento de la G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zaserina: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tamina aminotransfer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Anticancer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oruracilo:FdUMP-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imidilato sintasa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otrexato y Aminopterina: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hidrofolato reductasa.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U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ormulas de bases puricas"/>
          <p:cNvPicPr/>
          <p:nvPr/>
        </p:nvPicPr>
        <p:blipFill>
          <a:blip r:embed="rId1"/>
          <a:srcRect l="0" t="6983" r="55452" b="67524"/>
          <a:stretch/>
        </p:blipFill>
        <p:spPr>
          <a:xfrm>
            <a:off x="611280" y="2852640"/>
            <a:ext cx="3168720" cy="262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ormulas de bases puricas"/>
          <p:cNvPicPr/>
          <p:nvPr/>
        </p:nvPicPr>
        <p:blipFill>
          <a:blip r:embed="rId2"/>
          <a:srcRect l="962" t="35667" r="52674" b="36281"/>
          <a:stretch/>
        </p:blipFill>
        <p:spPr>
          <a:xfrm>
            <a:off x="4932360" y="278136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684360" y="2924280"/>
            <a:ext cx="1223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932360" y="2781360"/>
            <a:ext cx="122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ormulas de bases puricas"/>
          <p:cNvPicPr/>
          <p:nvPr/>
        </p:nvPicPr>
        <p:blipFill>
          <a:blip r:embed="rId1"/>
          <a:srcRect l="50834" t="5256" r="7683" b="64395"/>
          <a:stretch/>
        </p:blipFill>
        <p:spPr>
          <a:xfrm>
            <a:off x="971640" y="2060640"/>
            <a:ext cx="2808360" cy="26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ormulas de bases puricas"/>
          <p:cNvPicPr/>
          <p:nvPr/>
        </p:nvPicPr>
        <p:blipFill>
          <a:blip r:embed="rId2"/>
          <a:srcRect l="53007" t="66498" r="7683" b="3942"/>
          <a:stretch/>
        </p:blipFill>
        <p:spPr>
          <a:xfrm>
            <a:off x="5003640" y="1773360"/>
            <a:ext cx="244800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formulas de bases puricas"/>
          <p:cNvPicPr/>
          <p:nvPr/>
        </p:nvPicPr>
        <p:blipFill>
          <a:blip r:embed="rId3"/>
          <a:srcRect l="51610" t="35730" r="4113" b="36669"/>
          <a:stretch/>
        </p:blipFill>
        <p:spPr>
          <a:xfrm>
            <a:off x="5292720" y="4653000"/>
            <a:ext cx="2305080" cy="1730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900000" y="2349360"/>
            <a:ext cx="1224000" cy="398880"/>
          </a:xfrm>
          <a:prstGeom prst="rect">
            <a:avLst/>
          </a:prstGeom>
          <a:solidFill>
            <a:srgbClr val="f0d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859280" y="1773360"/>
            <a:ext cx="1224000" cy="39888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076720" y="4724280"/>
            <a:ext cx="1224000" cy="398880"/>
          </a:xfrm>
          <a:prstGeom prst="rect">
            <a:avLst/>
          </a:prstGeom>
          <a:solidFill>
            <a:srgbClr val="f4e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7236000" y="4221000"/>
            <a:ext cx="158400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7020000" y="155736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468360" y="443700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539640" y="5373720"/>
            <a:ext cx="158436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5508720" y="4149720"/>
            <a:ext cx="2376360" cy="2037240"/>
          </a:xfrm>
          <a:prstGeom prst="rect">
            <a:avLst/>
          </a:prstGeom>
          <a:solidFill>
            <a:srgbClr val="fbf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4038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DRIBOSEH"/>
          <p:cNvPicPr/>
          <p:nvPr/>
        </p:nvPicPr>
        <p:blipFill>
          <a:blip r:embed="rId1"/>
          <a:srcRect l="-4346" t="-4803" r="0" b="15891"/>
          <a:stretch/>
        </p:blipFill>
        <p:spPr>
          <a:xfrm>
            <a:off x="5292720" y="371628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RIBOSE"/>
          <p:cNvPicPr/>
          <p:nvPr/>
        </p:nvPicPr>
        <p:blipFill>
          <a:blip r:embed="rId2"/>
          <a:srcRect l="-3955" t="-4853" r="0" b="12626"/>
          <a:stretch/>
        </p:blipFill>
        <p:spPr>
          <a:xfrm>
            <a:off x="684360" y="2565360"/>
            <a:ext cx="3786120" cy="27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Text Box 11"/>
          <p:cNvSpPr/>
          <p:nvPr/>
        </p:nvSpPr>
        <p:spPr>
          <a:xfrm>
            <a:off x="5794200" y="2852640"/>
            <a:ext cx="33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3276720" y="3789360"/>
            <a:ext cx="865080" cy="165564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7596360" y="4797360"/>
            <a:ext cx="865080" cy="165600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fi4p3"/>
          <p:cNvPicPr/>
          <p:nvPr/>
        </p:nvPicPr>
        <p:blipFill>
          <a:blip r:embed="rId1"/>
          <a:srcRect l="0" t="0" r="21858" b="47920"/>
          <a:stretch/>
        </p:blipFill>
        <p:spPr>
          <a:xfrm>
            <a:off x="539640" y="1125360"/>
            <a:ext cx="8029800" cy="459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556000" y="4581360"/>
            <a:ext cx="1584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43280" y="2708280"/>
            <a:ext cx="1584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451640" y="2637000"/>
            <a:ext cx="11527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67640" y="4653000"/>
            <a:ext cx="1008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435640" y="981000"/>
            <a:ext cx="208908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932520" y="22982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77080" y="4220640"/>
            <a:ext cx="4762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fi4p3"/>
          <p:cNvPicPr/>
          <p:nvPr/>
        </p:nvPicPr>
        <p:blipFill>
          <a:blip r:embed="rId1"/>
          <a:srcRect l="0" t="48841" r="23042" b="0"/>
          <a:stretch/>
        </p:blipFill>
        <p:spPr>
          <a:xfrm>
            <a:off x="755640" y="1413000"/>
            <a:ext cx="7523280" cy="4289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651640" y="981000"/>
            <a:ext cx="2089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84360" y="2997360"/>
            <a:ext cx="1295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00360" y="4941720"/>
            <a:ext cx="12952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380360" y="2924280"/>
            <a:ext cx="936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7451640" y="5013360"/>
            <a:ext cx="9367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804000" y="26348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32440" y="4652640"/>
            <a:ext cx="476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76078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cedencia de los átomos del anillo de PU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ormulas de bases puricas"/>
          <p:cNvPicPr/>
          <p:nvPr/>
        </p:nvPicPr>
        <p:blipFill>
          <a:blip r:embed="rId1"/>
          <a:srcRect l="962" t="35667" r="52674" b="36281"/>
          <a:stretch/>
        </p:blipFill>
        <p:spPr>
          <a:xfrm>
            <a:off x="2916360" y="263700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2987640" y="2708280"/>
            <a:ext cx="180036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illo de Pu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140360" y="465300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4858920" y="4724280"/>
            <a:ext cx="14436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140360" y="5734080"/>
            <a:ext cx="1439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5003640" y="4149720"/>
            <a:ext cx="64800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3564000" y="3933720"/>
            <a:ext cx="64764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2843280" y="5877000"/>
            <a:ext cx="64764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635280" y="623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85928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219640" y="3789360"/>
            <a:ext cx="1366920" cy="368280"/>
          </a:xfrm>
          <a:prstGeom prst="rect">
            <a:avLst/>
          </a:prstGeom>
          <a:solidFill>
            <a:srgbClr val="99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 flipH="1">
            <a:off x="4211280" y="2349360"/>
            <a:ext cx="647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4356000" y="2060640"/>
            <a:ext cx="1152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 rot="4140600">
            <a:off x="3607200" y="3601080"/>
            <a:ext cx="1133640" cy="1077840"/>
          </a:xfrm>
          <a:prstGeom prst="pie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788000" y="3429000"/>
            <a:ext cx="504720" cy="360360"/>
          </a:xfrm>
          <a:prstGeom prst="pie">
            <a:avLst/>
          </a:prstGeom>
          <a:solidFill>
            <a:srgbClr val="ffff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536364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867280" y="2852640"/>
            <a:ext cx="5050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44:42Z</dcterms:created>
  <dc:creator>Irma</dc:creator>
  <dc:description/>
  <dc:language>en-US</dc:language>
  <cp:lastModifiedBy>Usuario</cp:lastModifiedBy>
  <dcterms:modified xsi:type="dcterms:W3CDTF">2012-05-23T00:22:44Z</dcterms:modified>
  <cp:revision>75</cp:revision>
  <dc:subject/>
  <dc:title>METABOLISMO DE NUCLEOTIDOS</dc:title>
</cp:coreProperties>
</file>